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853-507C-41E6-BCB0-AB3379B2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B73-8209-49C8-98E8-11B3B0F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77D-0CEA-4702-9600-E1CDF5D3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D6E-817E-4517-A8A2-D9C22992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095-EC02-43D7-B3F8-C2726F3E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8E89-3334-4609-9A78-A717CFE3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09E8-4630-4477-8EC1-B0F3BBAA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9AD2-CA86-4408-ABD9-BCBCA2A3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137D-D7A2-4074-A560-A1E70C0B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62F8-CFA8-4C71-A654-A14D7B16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D67E-02BF-47BE-A868-F00C7BF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ACB-66D0-4CD7-9852-9361645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D684-6C60-42E3-B3AC-4D20D93D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EF2-2568-4238-B0A3-083E1B5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3D45-CC29-49EB-B231-C2E1CA7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2B45-8B64-4A5B-B844-B8DA012A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66CD-3E4F-4223-95BD-FB092AA1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1DE-A3E3-488D-AF3B-FD1E04FF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0E5-9445-428B-A781-5CF06E66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FDD-3B93-4AAC-A6F9-C2592EDE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AB1-0460-4360-9832-143A502D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EAE-9964-4D20-A083-CD8282E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43BD-7C6F-4A7D-A884-3CAC5E0E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012-A729-4D51-953E-E1436D9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BCA-90CB-45D5-B10E-5A792025E226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0428-443E-44D5-AA5F-6558C86B58D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Arial"/>
              </a:rPr>
              <a:t>Properties of Real Numbe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ea typeface="Arial"/>
              </a:rPr>
              <a:t>Goal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: Identify the Properties and give an algebraic exam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flex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Reflexive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 The same expression is written on both sides of the equal sig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+ b = a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ymmetric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ymmetric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Flip sid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, then b =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ransi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Transi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 and b = c, then a = 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absolute value of a number is the distance it is away from zero on the number lin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istance is always positive so absolute values are always positiv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You cannot travel -3 miles, so distance must be positive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1/2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3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.01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|-3.4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+ |-7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roperties of Real Numb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properties of real numbers allow us to manipulate expressions and equations and find the values of a variabl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mut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ommut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Positions of terms chan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Deals with ORDER.  It does not matter   what order you ADD or MULTIPL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 a + b = b +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ab = b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ssoci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Associ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The grouping of terms chang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“regrouping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(a + b) + c = a + (b + 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(ab)c = a(b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dentity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Identity Propertie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Get original term ba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x + 0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x)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rs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Arial"/>
              </a:rPr>
              <a:t>Inverse Properties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add to 0 and multiply to 1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di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+ -a = 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ultiplica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4952880"/>
          <a:ext cx="1595520" cy="11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159552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istribu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(b+c) = ab + a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j + k)4 = 4j + 4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4 = 4+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5(x - 4) = 5x - 2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24(2) = 2(24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(3 + 4) + 7 = 3 + (4 + 7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5638680"/>
          <a:ext cx="236232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638680"/>
                    <a:ext cx="23623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7+3)+2 = 2+(7+3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4)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9 + 0 = -9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6 + 4 = 4 + 6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8:29:45Z</dcterms:created>
  <dc:creator>PA Department of Education</dc:creator>
  <dc:description/>
  <dc:language>en-US</dc:language>
  <cp:lastModifiedBy>Parkland High School</cp:lastModifiedBy>
  <dcterms:modified xsi:type="dcterms:W3CDTF">2010-09-13T12:13:46Z</dcterms:modified>
  <cp:revision>4</cp:revision>
  <dc:subject/>
  <dc:title>Unit 1  1.2  Properties of Real Numbers  </dc:title>
</cp:coreProperties>
</file>